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6A4-88E9-4AC4-8A05-C162C236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386-0D50-40C9-B7DB-E316A51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FDF-F29B-46C3-82EC-803BE14C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07C-9819-437E-936D-83CC5A22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BC1-75F4-4C2B-A89F-4195A4EE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974E-0DE0-484F-8952-D7EDAF7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DC14-1CED-4C2E-8CBF-A0D2FA8C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8C87-376D-4D2E-B289-4D4367E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50B0-3B01-47AD-8FA9-B94084AE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219D-487F-4DDC-B26C-FA396AB3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B74E-E5DB-4C87-B62E-AFDA4C20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3D6-D31F-4D5E-A095-21D58FA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D0A-F290-4F72-BC98-859241F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9E32-A37D-41D5-B751-0E4EB6A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3154-550F-43D6-90AD-E138F54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5FD-1AA4-45E5-AD9A-48EF497E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F23-FFC4-4CE1-822D-49906781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9B78-383E-4E9C-82FA-4C021644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5D95-50E0-4E47-9315-00613F3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01B4-7665-40EE-BC5E-9BD3A616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BD9B-3F73-4522-A2E8-9356273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1ACD-95BF-4626-9B34-005BB184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5B2-3C99-4AEA-96E8-1C7706E0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2363-8E7E-4182-BCAD-C31EB8D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3FC4-1391-4565-8EC5-BCEFC99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B4FE-6389-4E07-95A6-91E6ABD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E2DE-7FBE-4A3F-83E8-3B742D0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85CB-4E83-4FF3-91E5-0CB8F86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94ED-E971-449A-B0DD-365B5695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B09D-6188-4FCC-90DB-9B0AF736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685-3649-4BE9-BE31-9D82B30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54C-D3DD-426B-9393-486BC36E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807-B313-4646-88E8-ADC708CE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26F-331E-422F-AE27-7F448E1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929-0FB2-4733-AAAB-38B94B3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7DE-FDF1-4313-9A7B-1E48663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8D1-42D8-4032-B1CC-248372B08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6AE-0D74-47BA-A1F5-87883D401FE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28D9-6C7D-4CA7-895C-902A29B4CE5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框图是表示一个系统各部分和各环节之间关系的图示，它的作用在于能够清晰地表达比较复杂的系统各部分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将学习用“流程图”“结构图”等刻画数学问题以及其他问题的解决过程；体验用框图表示数学问题解决过程以及事物发生、发展过程的优越性，提高抽象概括能力和逻辑思维能力，能清晰地表达和交流思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89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么是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684360" y="1066680"/>
            <a:ext cx="7010280" cy="5791320"/>
            <a:chOff x="684360" y="1066680"/>
            <a:chExt cx="7010280" cy="5791320"/>
          </a:xfrm>
        </p:grpSpPr>
        <p:sp>
          <p:nvSpPr>
            <p:cNvPr id="194" name=""/>
            <p:cNvSpPr/>
            <p:nvPr/>
          </p:nvSpPr>
          <p:spPr>
            <a:xfrm>
              <a:off x="3427560" y="1066680"/>
              <a:ext cx="2057400" cy="380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拨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9559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2640" y="1904760"/>
              <a:ext cx="266724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注册客户服务请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3880" y="2819160"/>
              <a:ext cx="182880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代缴费请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5960" y="3809880"/>
              <a:ext cx="1143000" cy="10666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代缴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事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费按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5840" y="3809880"/>
              <a:ext cx="914400" cy="11430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机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值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60" y="5333760"/>
              <a:ext cx="60948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33760"/>
              <a:ext cx="60984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4560" y="5333760"/>
              <a:ext cx="60948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煤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22640" y="5333760"/>
              <a:ext cx="60984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固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1080" y="5333760"/>
              <a:ext cx="6858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75480" y="5410080"/>
              <a:ext cx="76176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充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8480" y="5410080"/>
              <a:ext cx="68580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实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查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8840" y="5410080"/>
              <a:ext cx="68580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实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帐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194" idx="2"/>
              <a:endCxn id="195" idx="0"/>
            </p:cNvCxnSpPr>
            <p:nvPr/>
          </p:nvCxnSpPr>
          <p:spPr>
            <a:xfrm>
              <a:off x="4456080" y="144756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195" idx="2"/>
              <a:endCxn id="196" idx="0"/>
            </p:cNvCxnSpPr>
            <p:nvPr/>
          </p:nvCxnSpPr>
          <p:spPr>
            <a:xfrm flipH="1">
              <a:off x="4417920" y="2361960"/>
              <a:ext cx="388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196" idx="2"/>
              <a:endCxn id="197" idx="0"/>
            </p:cNvCxnSpPr>
            <p:nvPr/>
          </p:nvCxnSpPr>
          <p:spPr>
            <a:xfrm rot="5400000">
              <a:off x="3255480" y="2647800"/>
              <a:ext cx="534240" cy="1791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 rot="16200000">
              <a:off x="5103000" y="2590560"/>
              <a:ext cx="534240" cy="19054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197" idx="2"/>
              <a:endCxn id="199" idx="0"/>
            </p:cNvCxnSpPr>
            <p:nvPr/>
          </p:nvCxnSpPr>
          <p:spPr>
            <a:xfrm rot="5400000">
              <a:off x="1578960" y="4285800"/>
              <a:ext cx="457920" cy="16390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endCxn id="200" idx="0"/>
            </p:cNvCxnSpPr>
            <p:nvPr/>
          </p:nvCxnSpPr>
          <p:spPr>
            <a:xfrm>
              <a:off x="1827000" y="51811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endCxn id="202" idx="0"/>
            </p:cNvCxnSpPr>
            <p:nvPr/>
          </p:nvCxnSpPr>
          <p:spPr>
            <a:xfrm>
              <a:off x="3427200" y="5104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endCxn id="201" idx="0"/>
            </p:cNvCxnSpPr>
            <p:nvPr/>
          </p:nvCxnSpPr>
          <p:spPr>
            <a:xfrm>
              <a:off x="2589120" y="5104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197" idx="2"/>
              <a:endCxn id="203" idx="0"/>
            </p:cNvCxnSpPr>
            <p:nvPr/>
          </p:nvCxnSpPr>
          <p:spPr>
            <a:xfrm flipH="1" rot="16200000">
              <a:off x="3237120" y="4266720"/>
              <a:ext cx="457920" cy="16768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198" idx="2"/>
              <a:endCxn id="204" idx="0"/>
            </p:cNvCxnSpPr>
            <p:nvPr/>
          </p:nvCxnSpPr>
          <p:spPr>
            <a:xfrm rot="5400000">
              <a:off x="5560200" y="4647960"/>
              <a:ext cx="457920" cy="1067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198" idx="2"/>
              <a:endCxn id="206" idx="0"/>
            </p:cNvCxnSpPr>
            <p:nvPr/>
          </p:nvCxnSpPr>
          <p:spPr>
            <a:xfrm flipH="1" rot="16200000">
              <a:off x="6608880" y="4666680"/>
              <a:ext cx="457920" cy="10296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endCxn id="205" idx="0"/>
            </p:cNvCxnSpPr>
            <p:nvPr/>
          </p:nvCxnSpPr>
          <p:spPr>
            <a:xfrm>
              <a:off x="6323040" y="5181120"/>
              <a:ext cx="388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666360" y="763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交纳电费的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040" y="706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80" y="1219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360" y="175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36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6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5560" y="727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55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81680" y="11844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65840" y="17524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65840" y="23623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65840" y="2971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04680" y="96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手机充值的操作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94240" y="83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880" y="137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88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8056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8056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27360" y="8380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55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2960" y="13716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74640" y="19051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19280" y="24382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50960" y="29718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24480" y="428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绘制流程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6680" y="12193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用自然语言描述考试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4628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一步：咨询考试事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83600" y="230184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二步：新生填写考生注册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并领取考生号；老生出示考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22760" y="342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三步：明确考试科目和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040" y="4114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四步：交纳考试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22760" y="480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五步：按规定时间参加考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904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六步：领取成绩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7840" y="6248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第七步：领取证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8840" y="22860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单线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685800"/>
            <a:ext cx="205740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咨询考试事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1295280"/>
            <a:ext cx="1752840" cy="609840"/>
          </a:xfrm>
          <a:prstGeom prst="flowChartDecision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否新考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133720"/>
            <a:ext cx="205740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填写考生注册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2852640"/>
            <a:ext cx="2057400" cy="3812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领取考生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2286000"/>
            <a:ext cx="160020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示考生编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3505320"/>
            <a:ext cx="236196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明确考试科目和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191120"/>
            <a:ext cx="236232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交纳考试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4876920"/>
            <a:ext cx="2286000" cy="4572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规定时间参加考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5715000"/>
            <a:ext cx="228600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领取成绩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6400800"/>
            <a:ext cx="228600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领取证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1" idx="2"/>
            <a:endCxn id="252" idx="0"/>
          </p:cNvCxnSpPr>
          <p:nvPr/>
        </p:nvCxnSpPr>
        <p:spPr>
          <a:xfrm>
            <a:off x="5829120" y="1066320"/>
            <a:ext cx="1080" cy="229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2" idx="2"/>
            <a:endCxn id="253" idx="0"/>
          </p:cNvCxnSpPr>
          <p:nvPr/>
        </p:nvCxnSpPr>
        <p:spPr>
          <a:xfrm>
            <a:off x="5829120" y="1904760"/>
            <a:ext cx="1080" cy="229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3" idx="2"/>
            <a:endCxn id="254" idx="0"/>
          </p:cNvCxnSpPr>
          <p:nvPr/>
        </p:nvCxnSpPr>
        <p:spPr>
          <a:xfrm flipH="1">
            <a:off x="5816160" y="2514240"/>
            <a:ext cx="13680" cy="338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4" idx="2"/>
            <a:endCxn id="256" idx="0"/>
          </p:cNvCxnSpPr>
          <p:nvPr/>
        </p:nvCxnSpPr>
        <p:spPr>
          <a:xfrm>
            <a:off x="5816520" y="3233880"/>
            <a:ext cx="13680" cy="2721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>
            <a:off x="5866920" y="3885840"/>
            <a:ext cx="1080" cy="305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6" name=""/>
          <p:cNvCxnSpPr/>
          <p:nvPr/>
        </p:nvCxnSpPr>
        <p:spPr>
          <a:xfrm>
            <a:off x="5943240" y="4571640"/>
            <a:ext cx="1080" cy="305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8" idx="2"/>
            <a:endCxn id="259" idx="0"/>
          </p:cNvCxnSpPr>
          <p:nvPr/>
        </p:nvCxnSpPr>
        <p:spPr>
          <a:xfrm>
            <a:off x="5943240" y="5334120"/>
            <a:ext cx="1080" cy="381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9" idx="2"/>
            <a:endCxn id="260" idx="0"/>
          </p:cNvCxnSpPr>
          <p:nvPr/>
        </p:nvCxnSpPr>
        <p:spPr>
          <a:xfrm>
            <a:off x="5943240" y="6095520"/>
            <a:ext cx="1080" cy="305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2" idx="3"/>
            <a:endCxn id="255" idx="0"/>
          </p:cNvCxnSpPr>
          <p:nvPr/>
        </p:nvCxnSpPr>
        <p:spPr>
          <a:xfrm>
            <a:off x="6705360" y="1599840"/>
            <a:ext cx="1562760" cy="686520"/>
          </a:xfrm>
          <a:prstGeom prst="bentConnector2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55" idx="2"/>
          </p:cNvCxnSpPr>
          <p:nvPr/>
        </p:nvCxnSpPr>
        <p:spPr>
          <a:xfrm rot="5400000">
            <a:off x="6800400" y="1885680"/>
            <a:ext cx="686520" cy="2248560"/>
          </a:xfrm>
          <a:prstGeom prst="bentConnector2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046920" y="1801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97840" y="1187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9560" y="103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动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-101520"/>
            <a:ext cx="609588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探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d7da9"/>
                </a:solidFill>
                <a:latin typeface="Times New Roman"/>
              </a:rPr>
              <a:t>某“儿童之家”开展亲子活动，计划活动步骤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首先，儿童与家长按事先约定时间来到“儿童之家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然后，一部分工作人员接待儿童，做活动前准备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同时，另一部分工作人员接待家长，交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儿童本周表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第三步，按照亲子活动方案进行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第四步，启导员填写亲子活动总结记录；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家长填写亲子活动反馈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imes New Roman"/>
              </a:rPr>
              <a:t>最后，启导员填写服务跟踪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Times New Roman"/>
              </a:rPr>
              <a:t>你能为“儿童之家”的这项活动设计一个活动流程图吗？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685800"/>
            <a:ext cx="358128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儿童与家长如约来到“儿童之家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819520"/>
            <a:ext cx="358128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亲子活动方案活动</a:t>
            </a:r>
            <a:r>
              <a:rPr b="1" lang="zh-CN" sz="2000" spc="-1" strike="noStrike">
                <a:solidFill>
                  <a:srgbClr val="c0c0c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733920"/>
            <a:ext cx="1828800" cy="76176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启导员填写亲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总结记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3733920"/>
            <a:ext cx="1676520" cy="76176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家长填写亲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反馈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5029200"/>
            <a:ext cx="3581280" cy="38088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启导员填写服务跟踪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1600200"/>
            <a:ext cx="1371600" cy="6858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待儿童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前准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1523880"/>
            <a:ext cx="1447560" cy="76212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待家长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流本周表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/>
          <p:nvPr/>
        </p:nvCxnSpPr>
        <p:spPr>
          <a:xfrm>
            <a:off x="8229240" y="1028520"/>
            <a:ext cx="1080" cy="495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>
            <a:off x="6248160" y="106668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>
            <a:off x="6324120" y="228600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8229240" y="232416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8305560" y="323856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6324120" y="323856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6324120" y="453384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8229240" y="4533840"/>
            <a:ext cx="1080" cy="496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6162840" y="73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d7da9"/>
                </a:solidFill>
                <a:latin typeface="Times New Roman"/>
              </a:rPr>
              <a:t>双线流程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6320" y="2438280"/>
            <a:ext cx="8915400" cy="3276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02760" y="-7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实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77560" y="93024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流程图还可以用于描述工业生产的流程，这样的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通常称为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工序流程图</a:t>
            </a:r>
            <a:r>
              <a:rPr b="1" lang="zh-CN" sz="2400" spc="-1" strike="noStrike">
                <a:solidFill>
                  <a:srgbClr val="7d7da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2514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843840" y="38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工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77680" y="3570120"/>
            <a:ext cx="5453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思考：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</a:rPr>
              <a:t>按照这个工序流程图，一件成品可能经过几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Times New Roman"/>
              </a:rPr>
              <a:t>加工和检验程序？哪些环节可能导致废品产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16080" y="4842000"/>
            <a:ext cx="10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件成品可能经过两道加工和检验的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即粗加工和检验，精加工和最后检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43520" y="57564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一件成品也可能经过三道加工和检验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即粗加工和检验，返修加工和返修检验，以及精加工和最后检验</a:t>
            </a:r>
            <a:r>
              <a:rPr b="1" lang="zh-CN" sz="2400" spc="-1" strike="noStrike">
                <a:solidFill>
                  <a:srgbClr val="c0c0c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1009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9144000" cy="149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7720" y="76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04920" y="2968560"/>
            <a:ext cx="8610480" cy="23655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-380880" y="152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流程图表示数学计算与证明过程中的主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思路与步骤。例如本册书的“推理与证明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我们用流程图表示综合法和分析法的解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过程如下：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86200" y="457200"/>
            <a:ext cx="4800600" cy="59436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909360" y="70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解决数学问题的过程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用流程图表示如（右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15920" y="457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作业报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16960" y="166860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解你所在学校入学和毕业离校的程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并用流程图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133720" y="1716480"/>
            <a:ext cx="6623640" cy="2984760"/>
            <a:chOff x="2133720" y="1716480"/>
            <a:chExt cx="6623640" cy="2984760"/>
          </a:xfrm>
        </p:grpSpPr>
        <p:cxnSp>
          <p:nvCxnSpPr>
            <p:cNvPr id="125" name="_s287749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6075000" y="2316960"/>
              <a:ext cx="523440" cy="1784160"/>
            </a:xfrm>
            <a:prstGeom prst="bentConnector3">
              <a:avLst>
                <a:gd name="adj1" fmla="val 21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87750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4291920" y="2317680"/>
              <a:ext cx="523440" cy="1783440"/>
            </a:xfrm>
            <a:prstGeom prst="bentConnector3">
              <a:avLst>
                <a:gd name="adj1" fmla="val 21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287751"/>
            <p:cNvSpPr/>
            <p:nvPr/>
          </p:nvSpPr>
          <p:spPr>
            <a:xfrm>
              <a:off x="3916440" y="1716480"/>
              <a:ext cx="3057120" cy="119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ff6600"/>
                  </a:solidFill>
                  <a:latin typeface="Times New Roman"/>
                </a:rPr>
                <a:t>框图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87752"/>
            <p:cNvSpPr/>
            <p:nvPr/>
          </p:nvSpPr>
          <p:spPr>
            <a:xfrm>
              <a:off x="2133720" y="3507480"/>
              <a:ext cx="3057120" cy="119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6600"/>
                  </a:solidFill>
                  <a:latin typeface="Times New Roman"/>
                </a:rPr>
                <a:t>流程图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6600"/>
                  </a:solidFill>
                  <a:latin typeface="Times New Roman"/>
                </a:rPr>
                <a:t>（动态）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287753"/>
            <p:cNvSpPr/>
            <p:nvPr/>
          </p:nvSpPr>
          <p:spPr>
            <a:xfrm>
              <a:off x="5700240" y="3507480"/>
              <a:ext cx="3057120" cy="119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6600"/>
                  </a:solidFill>
                  <a:latin typeface="Times New Roman"/>
                </a:rPr>
                <a:t>结构图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6600"/>
                  </a:solidFill>
                  <a:latin typeface="Times New Roman"/>
                </a:rPr>
                <a:t>（静态）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692280"/>
            <a:ext cx="8424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：联邦快递公司规定甲、乙两地之间物品的托运费用根据下面的方法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其中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单位：元）为托运费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托运物品的重量（单位：千克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试画出计算费用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程序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773360"/>
          <a:ext cx="874872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7487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7680" y="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温故知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836640"/>
            <a:ext cx="8569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然语言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一步：输入物品重量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ω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；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二步：如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ω≦5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那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f=0.53 ω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否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f=50×0.53+(ω-50) ×0.85;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三步：输出托运费重量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ω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67440" y="762120"/>
            <a:ext cx="29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似程序框图的图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4600" y="131616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图书馆的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905120"/>
            <a:ext cx="10666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入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916280"/>
            <a:ext cx="10670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1905120"/>
            <a:ext cx="10666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阅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276720"/>
            <a:ext cx="10666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还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276720"/>
            <a:ext cx="10666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3276720"/>
            <a:ext cx="10666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借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39" idx="1"/>
          </p:cNvCxnSpPr>
          <p:nvPr/>
        </p:nvCxnSpPr>
        <p:spPr>
          <a:xfrm>
            <a:off x="2286000" y="2209320"/>
            <a:ext cx="84672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3"/>
            <a:endCxn id="140" idx="1"/>
          </p:cNvCxnSpPr>
          <p:nvPr/>
        </p:nvCxnSpPr>
        <p:spPr>
          <a:xfrm flipV="1">
            <a:off x="4198680" y="2208960"/>
            <a:ext cx="15166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0" idx="3"/>
            <a:endCxn id="143" idx="3"/>
          </p:cNvCxnSpPr>
          <p:nvPr/>
        </p:nvCxnSpPr>
        <p:spPr>
          <a:xfrm>
            <a:off x="6781680" y="2209680"/>
            <a:ext cx="76680" cy="1372320"/>
          </a:xfrm>
          <a:prstGeom prst="bentConnector3">
            <a:avLst>
              <a:gd name="adj1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1"/>
            <a:endCxn id="142" idx="3"/>
          </p:cNvCxnSpPr>
          <p:nvPr/>
        </p:nvCxnSpPr>
        <p:spPr>
          <a:xfrm flipH="1">
            <a:off x="4343040" y="35809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2" idx="1"/>
            <a:endCxn id="141" idx="3"/>
          </p:cNvCxnSpPr>
          <p:nvPr/>
        </p:nvCxnSpPr>
        <p:spPr>
          <a:xfrm flipH="1">
            <a:off x="2209320" y="35809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291040" y="43117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请同学们描述这个流程图表示的流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23360" y="49975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这个流程图说明了一个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080" y="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引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9880" y="534960"/>
            <a:ext cx="5105520" cy="4951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2440" y="6508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）诊病流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8560" y="27669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流程图表示的流程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42360" y="3529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个流程图说明了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9440" y="763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流程图概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6760" y="10144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像这样由一些图形符号和文字说明构成的图示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流程图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57200" y="167652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流程图有哪几部分组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6480" y="22096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Times New Roman"/>
              </a:rPr>
              <a:t>图形符号和文字说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6840" y="281952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流程图的作用是什么？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28960" y="335268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Times New Roman"/>
              </a:rPr>
              <a:t>表示一个动态过程或者描述一个过程性的活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36960" y="3886200"/>
            <a:ext cx="22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3. 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流程图有哪些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25040" y="4419720"/>
            <a:ext cx="29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Times New Roman"/>
              </a:rPr>
              <a:t>通常会有一个“起点”，一个或多个“终点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080" y="4952880"/>
            <a:ext cx="43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4. 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使用流程图有哪些优越性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50560" y="5562720"/>
            <a:ext cx="4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Times New Roman"/>
              </a:rPr>
              <a:t>可以直观、明确地表示动态过程从开始到结束的全部步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Times New Roman"/>
              </a:rPr>
              <a:t>在日常生活和工作的很多领域都得到广泛的应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06880" y="-60480"/>
            <a:ext cx="620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阅读流程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银行推出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55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银行代缴费业务，具体业务流程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92360" y="1066680"/>
            <a:ext cx="7010280" cy="5791320"/>
            <a:chOff x="1692360" y="1066680"/>
            <a:chExt cx="7010280" cy="5791320"/>
          </a:xfrm>
        </p:grpSpPr>
        <p:sp>
          <p:nvSpPr>
            <p:cNvPr id="168" name=""/>
            <p:cNvSpPr/>
            <p:nvPr/>
          </p:nvSpPr>
          <p:spPr>
            <a:xfrm>
              <a:off x="4435560" y="1066680"/>
              <a:ext cx="2057400" cy="380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拨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9559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30640" y="1904760"/>
              <a:ext cx="266724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注册客户服务请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11880" y="2819160"/>
              <a:ext cx="182880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代缴费请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3960" y="3809880"/>
              <a:ext cx="1143000" cy="10666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代缴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事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费按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3840" y="3809880"/>
              <a:ext cx="914400" cy="11430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机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值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92360" y="5333760"/>
              <a:ext cx="60948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30440" y="5333760"/>
              <a:ext cx="60984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2560" y="5333760"/>
              <a:ext cx="60948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煤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30640" y="5333760"/>
              <a:ext cx="60984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固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69080" y="5333760"/>
              <a:ext cx="6858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移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83480" y="5410080"/>
              <a:ext cx="76176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充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26480" y="5410080"/>
              <a:ext cx="68580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实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查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16840" y="5410080"/>
              <a:ext cx="68580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实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帐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缴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68" idx="2"/>
              <a:endCxn id="169" idx="0"/>
            </p:cNvCxnSpPr>
            <p:nvPr/>
          </p:nvCxnSpPr>
          <p:spPr>
            <a:xfrm>
              <a:off x="5464080" y="144756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69" idx="2"/>
              <a:endCxn id="170" idx="0"/>
            </p:cNvCxnSpPr>
            <p:nvPr/>
          </p:nvCxnSpPr>
          <p:spPr>
            <a:xfrm flipH="1">
              <a:off x="5425920" y="2361960"/>
              <a:ext cx="388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0" idx="2"/>
              <a:endCxn id="171" idx="0"/>
            </p:cNvCxnSpPr>
            <p:nvPr/>
          </p:nvCxnSpPr>
          <p:spPr>
            <a:xfrm rot="5400000">
              <a:off x="4263480" y="2647800"/>
              <a:ext cx="534240" cy="1791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 flipH="1" rot="16200000">
              <a:off x="6111000" y="2590560"/>
              <a:ext cx="534240" cy="19054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1" idx="2"/>
              <a:endCxn id="173" idx="0"/>
            </p:cNvCxnSpPr>
            <p:nvPr/>
          </p:nvCxnSpPr>
          <p:spPr>
            <a:xfrm rot="5400000">
              <a:off x="2586960" y="4285800"/>
              <a:ext cx="457920" cy="16390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>
              <a:endCxn id="174" idx="0"/>
            </p:cNvCxnSpPr>
            <p:nvPr/>
          </p:nvCxnSpPr>
          <p:spPr>
            <a:xfrm>
              <a:off x="2835000" y="51811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endCxn id="176" idx="0"/>
            </p:cNvCxnSpPr>
            <p:nvPr/>
          </p:nvCxnSpPr>
          <p:spPr>
            <a:xfrm>
              <a:off x="4435200" y="5104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>
              <a:endCxn id="175" idx="0"/>
            </p:cNvCxnSpPr>
            <p:nvPr/>
          </p:nvCxnSpPr>
          <p:spPr>
            <a:xfrm>
              <a:off x="3597120" y="51048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71" idx="2"/>
              <a:endCxn id="177" idx="0"/>
            </p:cNvCxnSpPr>
            <p:nvPr/>
          </p:nvCxnSpPr>
          <p:spPr>
            <a:xfrm flipH="1" rot="16200000">
              <a:off x="4245120" y="4266720"/>
              <a:ext cx="457920" cy="16768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72" idx="2"/>
              <a:endCxn id="178" idx="0"/>
            </p:cNvCxnSpPr>
            <p:nvPr/>
          </p:nvCxnSpPr>
          <p:spPr>
            <a:xfrm rot="5400000">
              <a:off x="6568200" y="4647960"/>
              <a:ext cx="457920" cy="1067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72" idx="2"/>
              <a:endCxn id="180" idx="0"/>
            </p:cNvCxnSpPr>
            <p:nvPr/>
          </p:nvCxnSpPr>
          <p:spPr>
            <a:xfrm flipH="1" rot="16200000">
              <a:off x="7616880" y="4666680"/>
              <a:ext cx="457920" cy="10296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endCxn id="179" idx="0"/>
            </p:cNvCxnSpPr>
            <p:nvPr/>
          </p:nvCxnSpPr>
          <p:spPr>
            <a:xfrm>
              <a:off x="7331040" y="5181120"/>
              <a:ext cx="388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3:26:32Z</dcterms:created>
  <dc:creator>DPS</dc:creator>
  <dc:description/>
  <dc:language>en-US</dc:language>
  <cp:lastModifiedBy>User</cp:lastModifiedBy>
  <dcterms:modified xsi:type="dcterms:W3CDTF">2007-11-29T10:10:53Z</dcterms:modified>
  <cp:revision>331</cp:revision>
  <dc:subject/>
  <dc:title>PowerPoint 演示文稿</dc:title>
</cp:coreProperties>
</file>