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0F6-51D3-4254-BC00-EA86AAAA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A21-E0B2-4122-81F6-109B4051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E3C-F38C-46D2-AFD8-19BA9F77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563-A338-40DE-8405-A48F910F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A8C-F743-426C-96A2-C6710404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3BF-03FA-4597-A552-F36124D4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BA3-F51D-439F-AD1B-0A9E7A49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558-0035-4B36-9759-7DAF5718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C60-C1C8-48CE-B073-10E476AF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9AF-4309-4B59-B433-BDF82395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5E4-2AF0-4514-BF70-C80AA5BF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164-B56B-4D96-A9AE-25303BC0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F1DB-92F0-4370-BADA-02CED3EB51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4000" y="0"/>
            <a:ext cx="8819280" cy="259920"/>
            <a:chOff x="324000" y="0"/>
            <a:chExt cx="8819280" cy="259920"/>
          </a:xfrm>
        </p:grpSpPr>
        <p:grpSp>
          <p:nvGrpSpPr>
            <p:cNvPr id="42" name=""/>
            <p:cNvGrpSpPr/>
            <p:nvPr/>
          </p:nvGrpSpPr>
          <p:grpSpPr>
            <a:xfrm>
              <a:off x="324000" y="0"/>
              <a:ext cx="4461120" cy="259920"/>
              <a:chOff x="324000" y="0"/>
              <a:chExt cx="4461120" cy="259920"/>
            </a:xfrm>
          </p:grpSpPr>
          <p:pic>
            <p:nvPicPr>
              <p:cNvPr id="43" name="" descr="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324000" y="50400"/>
                <a:ext cx="1987200" cy="20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" descr="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3077640" y="50400"/>
                <a:ext cx="1707480" cy="20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3"/>
              <a:srcRect l="14372" t="0" r="42356" b="-24567"/>
              <a:stretch/>
            </p:blipFill>
            <p:spPr>
              <a:xfrm flipH="1" rot="10800000">
                <a:off x="2275920" y="0"/>
                <a:ext cx="837720" cy="259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" name=""/>
            <p:cNvGrpSpPr/>
            <p:nvPr/>
          </p:nvGrpSpPr>
          <p:grpSpPr>
            <a:xfrm>
              <a:off x="4682160" y="0"/>
              <a:ext cx="4461120" cy="259920"/>
              <a:chOff x="4682160" y="0"/>
              <a:chExt cx="4461120" cy="259920"/>
            </a:xfrm>
          </p:grpSpPr>
          <p:pic>
            <p:nvPicPr>
              <p:cNvPr id="47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82160" y="50400"/>
                <a:ext cx="1987200" cy="20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7435800" y="50400"/>
                <a:ext cx="1707480" cy="20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6"/>
              <a:srcRect l="14372" t="0" r="42356" b="-24567"/>
              <a:stretch/>
            </p:blipFill>
            <p:spPr>
              <a:xfrm flipH="1" rot="10800000">
                <a:off x="6634080" y="0"/>
                <a:ext cx="837720" cy="259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0" name=""/>
          <p:cNvSpPr/>
          <p:nvPr/>
        </p:nvSpPr>
        <p:spPr>
          <a:xfrm>
            <a:off x="0" y="0"/>
            <a:ext cx="576360" cy="431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92160" y="3895560"/>
            <a:ext cx="5146920" cy="10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第七单元 燃料及其利用</a:t>
            </a:r>
            <a:endParaRPr b="1" lang="en-US" sz="80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2" name=""/>
          <p:cNvSpPr/>
          <p:nvPr/>
        </p:nvSpPr>
        <p:spPr>
          <a:xfrm>
            <a:off x="3247920" y="141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三期末复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89800" y="2488320"/>
            <a:ext cx="5199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类生活对化学能量的利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活燃料的利用：如做饭、取暖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燃烧产生的能量：发电、烧制陶瓷、冶炼金属、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射火箭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爆炸产生的巨大能量：开山炸石、拆除危旧建筑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食物在体内发生化学反应放出的热量，可维持体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日常活动所需的能量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33336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充分燃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燃料充分燃烧通常需要两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燃烧时要有足够的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燃料与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有足够大的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26920" y="404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6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乙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253520"/>
            <a:ext cx="78213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俗称酒精，化学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属于可再生能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酒精的制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料：高粱、玉米、薯类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产方式：发酵、蒸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物理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化学性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燃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空气中燃烧的现象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化学方程式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4046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7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34136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氢气的物理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氢气的化学性质：可燃性    还原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氢气燃烧化学方程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氢气还原氧化铜化学方程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氢气作为燃料的三大优点：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被认为是最清洁的燃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氢气的实验室制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反应化学方程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0920" y="2708280"/>
            <a:ext cx="889308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燃料中的一些杂质燃烧时，产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O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气体，形成酸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燃料燃烧不充分 ，产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气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末燃烧的碳氢化合物及碳粒，尘粒等固体颗粒排放到空气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二氧化碳含量增多，加剧温室效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3413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煤和石油等化石燃料燃烧造成对空气的污染，主要有以下几个方面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404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8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燃料燃烧对环境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859280" y="0"/>
            <a:ext cx="2519280" cy="10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型示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7650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题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341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知识点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燃烧及其条件；灭火的原理与方法；三大矿物燃料；燃烧、缓慢氧化；化学反应中能量的变化；消防安全标志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82120"/>
            <a:ext cx="93614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0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福州）英国科技人员研制出自动灭火陶瓷砖，砖里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入了一定量的氦气和二氧化碳。这种砖砌成的房屋发生火灾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高温烘烧下，砖会裂开并喷出氦气和二氧化碳，从而抑制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扑灭火焰。自动灭火陶瓷砖的灭火原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清除可燃物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使燃烧物与氧气隔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降低燃烧物的着火点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使燃烧物的温度降低到着火点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4762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题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选择填充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125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知识点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氢气、一氧化碳、甲烷和乙醇的性质；化石燃料；新能源的开发和利用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2492280"/>
            <a:ext cx="79930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列各组物质中，充分燃烧产物相同的是：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.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    B.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甲烷和酒精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煤和甲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11280" y="549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题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填空和简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26828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知识点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燃烧及其条件；灭火的原理与方法；爆炸的条件；化石燃料的燃烧对环境的影响；甲烷的可燃性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3346920"/>
            <a:ext cx="7704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0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佛山）“绿化亚运”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广州亚运会的主题之一。为减轻大气污染，必须要加强对工业废气和汽车尾气的治理。根据所学知识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化石燃料包括煤、石油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酸雨是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填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lt;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的降水，而正常雨水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约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煤的燃烧会导致酸雨的形成，原因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040120"/>
            <a:ext cx="79218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煤的气化是高效、清洁利用煤的重要途径。可将煤炼成焦炭，再将焦炭在高温下与水蒸气反应，得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其中，焦炭与水蒸气反应的基本类型属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在汽车尾气排放口加装“三效催化净化器”，在不消耗其它物质的情况下，可将尾气中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转化为参与大气循环的气体和无毒的气体。该化学反应的方式为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19400" y="476280"/>
            <a:ext cx="22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题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验与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19700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知识点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燃烧条件；灭火原理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92096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771640"/>
            <a:ext cx="5256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宁夏）某学校化学学习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组设计出右图所示装置，并进行白磷燃烧实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pl-PL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当烧杯内的水受热，温度计显示</a:t>
            </a:r>
            <a:r>
              <a:rPr b="0" lang="pl-PL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0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时，打开活塞，在盛有水的试管中有气泡均匀逸出，白磷未燃烧，关闭活塞。锥形瓶内反应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7340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磷未燃烧的原因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157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化学方程式是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3630600" cy="215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280" y="15606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随着水温升高，温度计显示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5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，再次打开活塞，白磷在水里燃烧。常言道，水火不相容。水能灭火的原因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而本实验中白磷在水里还能够燃烧的原因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3429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本实验装置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部分还可以用于制取的气体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收集方法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也可用于制取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气体，化学方程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797360"/>
            <a:ext cx="7777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析：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题是探究燃烧所需的条件，在进行探究时，主要是采取对比实验，解题时根据燃烧需要同时满足三个条件，进行分析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8"/>
          <p:cNvSpPr/>
          <p:nvPr/>
        </p:nvSpPr>
        <p:spPr>
          <a:xfrm>
            <a:off x="7152120" y="641016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人教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0"/>
            <a:ext cx="2808000" cy="10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知识网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2133720"/>
            <a:ext cx="57636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1989000"/>
            <a:ext cx="216000" cy="410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6920 h 4105440"/>
              <a:gd name="textAreaBottom" fmla="*/ 3998520 h 410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7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燃烧与灭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34136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112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燃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1700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灭火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2276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易燃易爆物的安全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3645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燃料和热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44720" cy="107928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1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化石燃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4221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化学反应与能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2852640"/>
            <a:ext cx="216000" cy="90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263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3573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然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1035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石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57340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燃料对环境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5516640"/>
            <a:ext cx="216000" cy="64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5300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空气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616572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92720" y="5950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能源开发与利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1560" y="476280"/>
            <a:ext cx="20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题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计算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275640"/>
            <a:ext cx="79218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广州）哥本哈根气候大会主要议题是二氧化碳的排放问题，上海世博会也大力倡导“低碳”生活理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现代生产、生活所消耗的巨额能量，主要来自煤、石油、天然气等的燃烧，由于这些化石燃料的组成中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元素，因此燃烧时向大气中排放了大量的二氧化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126828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知识点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煤、石油、天然气的主要组成及其性质；煤和石油的综合利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51200" y="486720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乘公共汽车行驶一百公里，人均排放二氧化碳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乘出租车行驶相同距离，人均排放二氧化碳是乘公共汽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00000" y="3357720"/>
          <a:ext cx="7056360" cy="1366560"/>
        </p:xfrm>
        <a:graphic>
          <a:graphicData uri="http://schemas.openxmlformats.org/drawingml/2006/table">
            <a:tbl>
              <a:tblPr/>
              <a:tblGrid>
                <a:gridCol w="3169080"/>
                <a:gridCol w="2092680"/>
                <a:gridCol w="179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公共汽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出租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百公里耗油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7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平均载客人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826920" y="836640"/>
            <a:ext cx="7488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汽车的燃料主要是汽油、汽油的成分复杂，本题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相对分子质量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完全燃烧的化学方程式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共汽车和出租车的耗油量（均以汽油为燃料）和载客量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燃烧及其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验探究：燃烧的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64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燃烧的条件：物质燃烧需要的条件：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②氧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空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③达到燃烧所需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温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叫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98900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燃烧的定义：燃烧通常是指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氧化反应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08720" y="836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421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：但并不是所有的燃烧都有氧气参加，如氢气可以在氯气中燃烧，镁可以在二氧化碳中燃烧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4941720"/>
            <a:ext cx="712944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58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：物质燃烧必需同时满足三个条件，缺一不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0"/>
            <a:ext cx="3600360" cy="10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考点整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620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灭火原理与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268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验探究：灭火原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1700280"/>
            <a:ext cx="792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灭火原理：根据燃烧的条件，可以得出灭火的原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除可燃物或使可燃物与其他物品隔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隔绝氧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空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温度降到着火点以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灭火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使可燃物与空气隔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降低周围的温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：灭火原理其实就是破坏燃烧条件，三个条件只要破坏其中的一个条件就可以达到灭火的目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5493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易燃易爆物的安全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197000"/>
            <a:ext cx="7201080" cy="14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易燃物和易爆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爆炸的条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意：爆炸不一定都是化学变化，如轮胎爆炸、锅炉爆炸、气球爆炸都是物理变化。判断一个变化是否是化学变化，关键是看它是否有新物质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5080" y="3500280"/>
            <a:ext cx="579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燃烧和爆炸有关的图标。如下图所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6567480" cy="2440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6920" y="47628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大矿物燃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05264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化石燃料包括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煤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俗称“工业的粮食”，是重要能源、化工原料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植物遗体埋在地层下经过长期复杂的变化而形成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主要含碳元素，还含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元素，以及无机矿物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由有机物和无机物组成的复杂混合物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47640" y="4869000"/>
            <a:ext cx="5400720" cy="1721520"/>
            <a:chOff x="1547640" y="4869000"/>
            <a:chExt cx="5400720" cy="1721520"/>
          </a:xfrm>
        </p:grpSpPr>
        <p:sp>
          <p:nvSpPr>
            <p:cNvPr id="94" name=""/>
            <p:cNvSpPr/>
            <p:nvPr/>
          </p:nvSpPr>
          <p:spPr>
            <a:xfrm>
              <a:off x="1547640" y="5589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24000" y="580536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28920" y="530064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干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68720" y="486900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焦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68720" y="55166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煤焦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8720" y="6130800"/>
              <a:ext cx="27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焦炉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79640" y="594828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（化学变化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851280" y="5084640"/>
            <a:ext cx="217440" cy="1368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24360" y="24210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30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（利用石油中各成分的沸点不同，将它们分离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635280" y="3068640"/>
            <a:ext cx="4968720" cy="3613320"/>
            <a:chOff x="3635280" y="3068640"/>
            <a:chExt cx="4968720" cy="3613320"/>
          </a:xfrm>
        </p:grpSpPr>
        <p:sp>
          <p:nvSpPr>
            <p:cNvPr id="105" name=""/>
            <p:cNvSpPr/>
            <p:nvPr/>
          </p:nvSpPr>
          <p:spPr>
            <a:xfrm>
              <a:off x="3635280" y="46278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石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27280" y="4853520"/>
              <a:ext cx="15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14920" y="44413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分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82920" y="494964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（物理变化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38920" y="3244680"/>
              <a:ext cx="431640" cy="323388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4240 h 3233880"/>
                <a:gd name="textAreaBottom" fmla="*/ 3149640 h 323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70560" y="30686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溶 剂 油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4920" y="442080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14920" y="481464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99280" y="365580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航空煤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4920" y="523728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43640" y="53629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润 滑 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43640" y="622224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沥      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43640" y="58323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石      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79280" y="836640"/>
            <a:ext cx="8675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石油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俗称“工业的血液”，是重要能源，化工原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生物的遗骸埋在地下经长期复杂变化形成石油和天然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主要含有碳、氢元素，还含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是一种黏稠状液体，主要由多种有机物组成的混合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404640"/>
            <a:ext cx="763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天然气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是成分是甲烷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甲烷也叫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981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甲烷物理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55736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甲烷化学性质：可燃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0000" y="2781360"/>
          <a:ext cx="7848720" cy="1985760"/>
        </p:xfrm>
        <a:graphic>
          <a:graphicData uri="http://schemas.openxmlformats.org/drawingml/2006/table">
            <a:tbl>
              <a:tblPr/>
              <a:tblGrid>
                <a:gridCol w="1122480"/>
                <a:gridCol w="3198600"/>
                <a:gridCol w="352764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现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化学方程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淡蓝色火焰，放出大量热量，生成水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明亮的蓝色火焰，放出大量热量，生成水和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zh-CN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00000" y="2133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甲烷与氢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氧气中燃烧的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220500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燃前都必须检验纯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5013360"/>
            <a:ext cx="79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来源：植物的残体在隔绝空气的情况下分解而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存在：煤矿的矿坑，沼池的底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用途：燃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55640" y="76500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化学反应中的能量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504520"/>
            <a:ext cx="82090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吸热和放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质发生化学反应的同时，常常伴随着能量的变化，通常表现为热量变化，即有放热现象或吸热现象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放热现象：有些物质发生化学反应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如物质的燃烧、铝与盐酸的反应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吸热现象：有些物质发生化学反应并不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而是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如一氧化碳、木炭还原氧化铜的反应，碳与二氧化碳的反应，高锰酸钾受热分解等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1:14:05Z</dcterms:created>
  <dc:creator>yang</dc:creator>
  <dc:description/>
  <dc:language>en-US</dc:language>
  <cp:lastModifiedBy>微软用户</cp:lastModifiedBy>
  <dcterms:modified xsi:type="dcterms:W3CDTF">2013-12-06T13:56:57Z</dcterms:modified>
  <cp:revision>38</cp:revision>
  <dc:subject/>
  <dc:title>幻灯片 1</dc:title>
</cp:coreProperties>
</file>